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0330-6032-4DB7-8895-E670DB09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375-8F97-459D-ABE9-A818076E2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042D-E666-4394-848E-8DC2AA183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C4F-3D6B-449B-BC50-5A1D349A5C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ommon way of stating that life is made of cells is to say that life is organ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are capable of interbreeding, populations are made up of sam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CD52-0158-4D0F-A0D7-2CD08FFC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0DD2-F101-460F-A5A9-2512055C6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60D-EE27-4A39-9E56-9D6B06EB9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FEA-F63F-4FFB-8312-0E512A9B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7EF-FFDB-4A66-A1F0-372313F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859-F07A-4C50-9B11-F695CBAD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A61-5266-4CCF-A5CB-62751E2D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BCC-F0AF-45EA-900C-5BA52C8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674-70C2-4A0D-9247-A580EA15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6D5-C937-4C24-8C0E-8952E97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6E2-ED6A-4A74-B141-61E2B301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3CC-2F2F-4B6B-9C8F-FF23F35E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341-9D35-4F88-8B3B-7605172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6B3-EAE8-4FA2-896E-87A7498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12D-8F6B-49E7-872F-6E80304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6EF-34E1-4906-BC97-BB30E3C7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s.org/sln/sem/tick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.ac.uk/~sd21/tisscult/call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reewebs.com/ltaing/cell%20fractionation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be0e3"/>
                </a:solidFill>
                <a:latin typeface="Rockwell Extra Bold"/>
              </a:rPr>
              <a:t>1-3 Studying Life (Biolog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nning Electron Microscop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s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object with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reflected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ducing a 3-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666880"/>
            <a:ext cx="3962160" cy="2706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 rot="10800000">
            <a:off x="-1800" y="5338440"/>
            <a:ext cx="88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er tick, responsible for transmitting Lyme Disease, is about the size of a frec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3220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cation: X 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5790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mission Electron Microscop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electrons pass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very thin slice of the speci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Coloured TEM of a section through striated muscle"/>
          <p:cNvPicPr/>
          <p:nvPr/>
        </p:nvPicPr>
        <p:blipFill>
          <a:blip r:embed="rId1"/>
          <a:stretch/>
        </p:blipFill>
        <p:spPr>
          <a:xfrm>
            <a:off x="990720" y="2895480"/>
            <a:ext cx="4495680" cy="333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15000" y="3466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ured TEM of 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striated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338120"/>
            <a:ext cx="647676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Cultures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le cells reproduce asexually in a lab (petri plate or test tube). Can grow many identical cells to test cell responses under controll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038480"/>
            <a:ext cx="33526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fractioniz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are burst open and the parts inside are separated  fo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352680"/>
            <a:ext cx="350496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Rockwell Extra Bold"/>
              </a:rPr>
              <a:t>What is considered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Book Antiqua"/>
              </a:rPr>
              <a:t>living thing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are made of cel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reproduc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are based on a universal genetic co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grow and develo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obtain and use materials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respond to their environ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Maintain a stable internal environment (homeostasi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Change over tim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Rockwell Extra Bold"/>
              </a:rPr>
              <a:t>Studying Life in Various 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Book Antiqua"/>
              </a:rPr>
              <a:t>Branches of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Divided into fields based on the type of life or  particular persp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Examples of type of life: Zoologist study animals, Botanist study plants, Microbiologists study bacteria and other small organis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Examples of perspective: Paleontologists study ancient life, Embryologists study newly forming life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s Organize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H,O,N,P,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2952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Tundra, desert, temperate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21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EFSphereP6"/>
          <p:cNvPicPr/>
          <p:nvPr/>
        </p:nvPicPr>
        <p:blipFill>
          <a:blip r:embed="rId1"/>
          <a:stretch/>
        </p:blipFill>
        <p:spPr>
          <a:xfrm>
            <a:off x="6705720" y="495288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Rockwell Extr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Book Antiqua"/>
            </a:endParaRPr>
          </a:p>
        </p:txBody>
      </p:sp>
      <p:pic>
        <p:nvPicPr>
          <p:cNvPr id="59" name="Picture 5" descr="Levels of Organization"/>
          <p:cNvPicPr/>
          <p:nvPr/>
        </p:nvPicPr>
        <p:blipFill>
          <a:blip r:embed="rId1"/>
          <a:stretch/>
        </p:blipFill>
        <p:spPr>
          <a:xfrm>
            <a:off x="3505320" y="1066680"/>
            <a:ext cx="1904760" cy="5457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493280" y="380880"/>
            <a:ext cx="650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bbe0e3"/>
                </a:solidFill>
                <a:latin typeface="Rockwell Extra Bold"/>
                <a:ea typeface="Times New Roman"/>
              </a:rPr>
              <a:t>Studying Life at Various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oeth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bioethic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n you think of any ethical issues that science must fac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 Syst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aly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inform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a table because you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s (highest/lo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s image by foc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ght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dead or a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–samples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canning-scans surface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nsmission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in s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24:55Z</dcterms:created>
  <dc:creator>Preferred Customer</dc:creator>
  <dc:description/>
  <dc:language>en-US</dc:language>
  <cp:lastModifiedBy>Preferred Customer</cp:lastModifiedBy>
  <dcterms:modified xsi:type="dcterms:W3CDTF">2010-09-23T09:05:35Z</dcterms:modified>
  <cp:revision>9</cp:revision>
  <dc:subject/>
  <dc:title>Studying Life</dc:title>
</cp:coreProperties>
</file>